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A4D8-791E-4E2D-A2CF-A6081E42F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AD8C-6DBF-4001-90CE-7F80DF89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B99C-3A01-444A-959E-8B3A63E7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A1A-8341-46D6-8D8E-9E5AF12D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035-C39D-4778-BEE3-128EAAFD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F72-54E2-45C9-97A9-73B582EF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4BF-0070-4CC6-9CC4-48B7F6F6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614-5F4A-4B01-BFDE-817225AF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A6B-93EF-403D-9967-AE56CF5A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F68-BABB-4C3C-831D-8E4A5B78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958-0723-4BA8-839F-6805C1C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515-FB39-4C2A-A6CD-B62229F5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1E0-13AF-421D-A48C-E5E1C77E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5D3-F6DE-4037-8497-D0A9827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35F-F581-4DE2-863A-3710D75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BDB0-AF66-4D88-AB60-B36602348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ink about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9520" y="1442880"/>
            <a:ext cx="865656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 wish for you to make me a gold crown.  The mass of the crown is 2.267 kg and it shall be of pure Gold.  If you were to pass a 600mA electric current through molten Au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how long will it take to make enough gold for my crown?  Express your answer in day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nformation:  1A = 1 C/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ge on one mole of electrons  ≈ 96 500 C/mol e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us…Is there any problem that you can foresee with this proces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think of a solution????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-96840" y="330120"/>
            <a:ext cx="922500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est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09520" y="1268280"/>
            <a:ext cx="865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vanic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lytic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aday’s Constant and Stoichi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ng Spontane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ng Cell Pot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lysis of Aqueous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hand Cell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Electrochemic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ing Half-Reactions in Acidic or Bas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Reac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ation Numb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8:39:10Z</dcterms:created>
  <dc:creator>FradkiL</dc:creator>
  <dc:description/>
  <dc:language>en-US</dc:language>
  <cp:lastModifiedBy>FradkiL</cp:lastModifiedBy>
  <dcterms:modified xsi:type="dcterms:W3CDTF">2010-05-25T14:13:59Z</dcterms:modified>
  <cp:revision>5</cp:revision>
  <dc:subject/>
  <dc:title>Slide 1</dc:title>
</cp:coreProperties>
</file>